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11C7-7931-456A-AD26-4D9D6BA5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B8BA-29DC-49E9-84F2-66EF6640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962-9FD3-434D-8EBC-0BFE562D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698-18E5-492B-9F65-FE97BC66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37E9-F168-4A84-BD88-FDCE5D72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6A18-DAC1-4FEE-9C76-FF3C2BC7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435B-3F1E-40F3-896C-4664959A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BBFB-94F1-4A55-B38E-0CC168AC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8F3B-8180-47F3-9DEB-0D9C79AC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D526-1732-47BB-811B-19811B47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6FE2-F632-4AD9-9555-72DA276B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F87C-D07E-44D6-8EEB-B575EBBB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F01C-9BFA-457C-9504-8F1319A0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DFA1-A3DB-42C8-8F12-AFC91BD4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32D9-2F53-40DF-BC36-A50D59D3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1AD2-3DDF-4F3D-AC21-777E96B6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0D26-AF8D-4A66-B297-CF041EE4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49502-B364-48C4-9A82-6B103097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9155F-1A67-4949-8540-05C936E5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2427D-A0A7-486B-A657-585CB6E4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10AD8-F7CC-428D-814E-02B90B56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1AB10-8159-42C2-878F-DD01DCFC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DE90-235A-45ED-A665-8631C9A8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D15F8-32E6-4D17-88B6-F8835741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8977E-AF1F-48D1-B6B5-BE522BB3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DDCE-8725-49CC-A59F-E883483A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AE7F2-2374-4A9E-8E67-8CACEC19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8F4B9-116F-49AA-BE84-53836790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4A64D-8BAA-4841-93A1-757CC31B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E9B61-4034-44A1-9E48-761F69D4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533C4-862F-45E6-AD16-5878DC9C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E4D87-FEF0-4190-9897-3C1AEA1F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F3429-D027-4A97-9EBE-056E6A17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BC7A-B90E-47E9-81D0-B1DD8F0F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DB293-9AC4-41C4-9EC3-2BC3F83D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702B7-3142-414C-8877-7428E046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7FD58-F7D6-4481-B120-035EDD7A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9D410-0440-48CD-8B87-DDFDB246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7E72E-5C82-401A-A990-1A6A7DC5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81373-19D7-4A71-8525-EF8F1FC1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7C993-2A64-4542-88EC-24293398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5CE0B-7737-489D-8407-AFC1E4F8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59B70-8687-4D56-9884-2D8099AC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FFDDE-CC7B-4C9C-8A74-485CC17D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12EE-2A8C-4849-BC59-32D6328B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32EC1-469A-44F4-82F6-F8AD0F0D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0C56F-952E-4E20-A97D-A8712A12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FE490-A870-47F4-863A-DF838195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7F4E1-7AF8-44A6-9FB3-8FD7DA47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7B513-5155-42A0-90C7-86A84967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618A6-A55B-464A-8797-6EB1C381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73A0C-2554-49AA-A235-52885630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3B188-76F4-4BC8-9A11-C5571BFC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3121F-F7EB-49B5-9B39-D886F0F2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11B7B-0479-424D-A730-19A046D6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E2CC-2482-4A95-ABB5-C0C71F35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558CA-3D9C-485B-A0B7-65C9E0A2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78C0E-530A-4327-8CFA-02C04414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CE83B-DD18-4738-BAA8-65CB3CD1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FE7C3-C117-4C66-906F-EA0C6530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E97C4-4EA5-4852-A622-0448456C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4B83C-6501-459E-B518-5A569F09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38646-5D29-49FC-BBF6-E5095A88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26B39-ECF4-4893-BD70-E50A022F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D4C86-365D-4975-9986-3AAE61E5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1A257-FEA6-4C67-AB68-0D5FE94F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5F32-77D8-4F7C-B47F-41FBDCB8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7B91D-24A3-42EC-9ADB-A8B99949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1F34E-B22C-497F-90AC-C208780A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D5253-5A8A-4638-8A8A-D4B62E05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C7F12-137E-4A90-9F12-5FF14EE3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4419A-D9EA-48D8-B8F7-9367B5CA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DA584-9455-4AC9-84CE-E2CBEFAB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38A37-9A32-4ACC-B6FF-67580907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C2F10-00E1-4EFF-9A0E-2FF7530C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BD3DD-533D-499D-A910-4FE3C237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7297A-D7C0-4DAE-A971-8020159E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09B7-624D-47CD-B60F-D9AF1415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CB5D4-AFC7-4B1A-8209-1197735C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DCE0B-C2C0-4304-95CB-7575EA9D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40254-CE25-4F65-AA8D-EF390D45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8B5F2-0525-44E7-B92E-9DF88D8F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9A55A-37D1-4518-88A6-493F0C95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BE8F3-94AA-430C-B64C-98877A88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474EA-7709-44E8-8BEB-A853E84B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8D25B-E44E-4A08-9A79-64ABB154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C680B-827E-4BAA-A2C2-72D12094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D68DB-B4E6-47BC-BD98-D66DFFE9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DC2D-CFE6-4426-A821-06CC8B35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D7952-6CF7-4053-B038-43B4D95C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89AE8-B98E-4B83-B4D8-AE9B0D8B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BFEBE-5EE9-43CB-8AA4-F86634F3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790D3-CAA9-4832-B1EE-1C4C3E6E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8A386-5DB1-4C32-8627-76DB987C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0F93A-3565-4F10-9CEB-21EC6216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0DEFB-7AAC-4F4D-9382-B1EDF932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C0E8-9DF0-49FC-ABA0-EAF8509FF26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e0736"/>
              </a:gs>
              <a:gs pos="50000">
                <a:srgbClr val="d75379"/>
              </a:gs>
              <a:gs pos="100000">
                <a:srgbClr val="8e073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d8a2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6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A55B-F94E-4447-BE53-C539C6080BF0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0BF4-3E26-46E8-B922-A21EF879DA3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F411-C4C3-4357-A326-F49DE23E33C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E4D8-60FB-49DC-9072-B594A59D529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9EC0-2603-4AAB-9D1D-93726589BB1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7355-AA49-4634-BC2B-76917ACB5F1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8" name="Прямоугольный треугольник 16" descr=""/>
            <p:cNvPicPr/>
            <p:nvPr/>
          </p:nvPicPr>
          <p:blipFill>
            <a:blip r:embed="rId5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Прямая соединительная линия 18" descr=""/>
          <p:cNvPicPr/>
          <p:nvPr/>
        </p:nvPicPr>
        <p:blipFill>
          <a:blip r:embed="rId6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283C-30C2-46BC-9E4F-B77BFFE600A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3645000" y="622440"/>
            <a:ext cx="5906880" cy="2468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3285720" y="285480"/>
            <a:ext cx="342900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Lucida Sans Unicode"/>
              </a:rPr>
              <a:t>Тема проекта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2071800" y="621504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ыктывкар.  2010 г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0"/>
          <p:cNvSpPr/>
          <p:nvPr/>
        </p:nvSpPr>
        <p:spPr>
          <a:xfrm>
            <a:off x="1928880" y="421488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Lucida Sans Unicode"/>
              </a:rPr>
              <a:t>Автор: студентка 4-го курса физико –математического факультета Карпова К.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E:\Documents\Катя\eg101207-7.jpg"/>
          <p:cNvPicPr/>
          <p:nvPr/>
        </p:nvPicPr>
        <p:blipFill>
          <a:blip r:embed="rId2"/>
          <a:stretch/>
        </p:blipFill>
        <p:spPr>
          <a:xfrm>
            <a:off x="-152280" y="725400"/>
            <a:ext cx="4389480" cy="35416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Lucida Sans Unicode"/>
              </a:rPr>
              <a:t>презентац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геометрические фигуры в архитектуре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de6c3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800" spc="-1" strike="noStrike">
                <a:solidFill>
                  <a:srgbClr val="0070c0"/>
                </a:solidFill>
                <a:latin typeface="Lucida Sans Unicode"/>
              </a:rPr>
              <a:t>публикац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Природные творения в виде геометрических фигур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Заголовок 2" descr=""/>
          <p:cNvPicPr/>
          <p:nvPr/>
        </p:nvPicPr>
        <p:blipFill>
          <a:blip r:embed="rId1"/>
          <a:stretch/>
        </p:blipFill>
        <p:spPr>
          <a:xfrm>
            <a:off x="274680" y="122400"/>
            <a:ext cx="8717040" cy="134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71680" y="14288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Lucida Sans Unicode"/>
              </a:rPr>
              <a:t>В чем магия геометрических</a:t>
            </a:r>
            <a:endParaRPr b="0" lang="en-US" sz="4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Lucida Sans Unicode"/>
              </a:rPr>
              <a:t>фигур?</a:t>
            </a:r>
            <a:endParaRPr b="0" lang="en-US" sz="4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400px-Hexahedron"/>
          <p:cNvPicPr/>
          <p:nvPr/>
        </p:nvPicPr>
        <p:blipFill>
          <a:blip r:embed="rId2"/>
          <a:stretch/>
        </p:blipFill>
        <p:spPr>
          <a:xfrm>
            <a:off x="214200" y="2714760"/>
            <a:ext cx="2786040" cy="3098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20070921021819"/>
          <p:cNvPicPr/>
          <p:nvPr/>
        </p:nvPicPr>
        <p:blipFill>
          <a:blip r:embed="rId3"/>
          <a:stretch/>
        </p:blipFill>
        <p:spPr>
          <a:xfrm>
            <a:off x="3000240" y="3714840"/>
            <a:ext cx="2881440" cy="28810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image11271"/>
          <p:cNvPicPr/>
          <p:nvPr/>
        </p:nvPicPr>
        <p:blipFill>
          <a:blip r:embed="rId4"/>
          <a:stretch/>
        </p:blipFill>
        <p:spPr>
          <a:xfrm>
            <a:off x="5857920" y="2500200"/>
            <a:ext cx="3063960" cy="30639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2876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Какие природные творения встречаются в виде геометрических фигур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Есть ли геометрические фигуры в архитектуре?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853920" y="133200"/>
            <a:ext cx="6796080" cy="1341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0680"/>
            <a:ext cx="822960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Есть ли геометрические фигуры в космосе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Что будет с геометрическими фигурами в будущем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5"/>
          <p:cNvSpPr/>
          <p:nvPr/>
        </p:nvSpPr>
        <p:spPr>
          <a:xfrm>
            <a:off x="428760" y="2858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Lucida Sans Unicode"/>
              </a:rPr>
              <a:t>Учебные предм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6"/>
          <p:cNvSpPr/>
          <p:nvPr/>
        </p:nvSpPr>
        <p:spPr>
          <a:xfrm>
            <a:off x="1428840" y="785880"/>
            <a:ext cx="54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Геометрия, исто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8"/>
          <p:cNvSpPr/>
          <p:nvPr/>
        </p:nvSpPr>
        <p:spPr>
          <a:xfrm>
            <a:off x="428760" y="1143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Lucida Sans Unicode"/>
              </a:rPr>
              <a:t>Участник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9"/>
          <p:cNvSpPr/>
          <p:nvPr/>
        </p:nvSpPr>
        <p:spPr>
          <a:xfrm>
            <a:off x="1428840" y="1500120"/>
            <a:ext cx="43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ащиеся 7-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0"/>
          <p:cNvSpPr/>
          <p:nvPr/>
        </p:nvSpPr>
        <p:spPr>
          <a:xfrm>
            <a:off x="571680" y="2714760"/>
            <a:ext cx="7429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ормирование познаний о возникновении геометрических фигур из практическ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ормирование геометрического во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ормирование познаний в области геоме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1"/>
          <p:cNvSpPr/>
          <p:nvPr/>
        </p:nvSpPr>
        <p:spPr>
          <a:xfrm>
            <a:off x="428760" y="19288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Lucida Sans Unicode"/>
              </a:rPr>
              <a:t>Дидактические 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TextBox 3"/>
          <p:cNvSpPr/>
          <p:nvPr/>
        </p:nvSpPr>
        <p:spPr>
          <a:xfrm>
            <a:off x="1428840" y="1357200"/>
            <a:ext cx="5715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ме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ользоваться языком геометрии для описания предметов окружающего ми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аспознавать геометрические фигуры, различать их взаимное расположе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Использовать знания и умения по геометрии в практической деятельности и повседневно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99680" y="428760"/>
            <a:ext cx="46148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Ученикам часто кажется, что геометрия – это скучный набор формул и фигур. И они не догадываются, что геометрические фигуры находят свое отражение практически во всех отраслях знаний:  архитектура,  искусство и т.д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Picture 5" descr="706073"/>
          <p:cNvPicPr/>
          <p:nvPr/>
        </p:nvPicPr>
        <p:blipFill>
          <a:blip r:embed="rId1"/>
          <a:stretch/>
        </p:blipFill>
        <p:spPr>
          <a:xfrm>
            <a:off x="5286240" y="0"/>
            <a:ext cx="3857760" cy="5143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1000080" y="499680"/>
            <a:ext cx="3929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Геометрические фигуры, представляют собой могущественный инструмент познания природы, создания техники и преобразования мир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i-main-pic" descr="Картинка 3 из 151"/>
          <p:cNvPicPr/>
          <p:nvPr/>
        </p:nvPicPr>
        <p:blipFill>
          <a:blip r:embed="rId1"/>
          <a:stretch/>
        </p:blipFill>
        <p:spPr>
          <a:xfrm>
            <a:off x="5715000" y="571680"/>
            <a:ext cx="3095640" cy="4929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Заголовок 7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8"/>
          <p:cNvSpPr/>
          <p:nvPr/>
        </p:nvSpPr>
        <p:spPr>
          <a:xfrm>
            <a:off x="1071720" y="1285920"/>
            <a:ext cx="7286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. Подготовительный (осознание проблемной ситуации, выбор темы проекта, постановка цел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2. Проектировочный (выбор тем исследований учащихся, формирование групп для проведения исследован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3. Заключительный(защита проектов и подведение итог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2:39:23Z</dcterms:created>
  <dc:creator>Admin</dc:creator>
  <dc:description/>
  <dc:language>en-US</dc:language>
  <cp:lastModifiedBy>Dimon</cp:lastModifiedBy>
  <dcterms:modified xsi:type="dcterms:W3CDTF">2010-05-27T18:09:01Z</dcterms:modified>
  <cp:revision>103</cp:revision>
  <dc:subject/>
  <dc:title>Семь чудес света в геометрии  </dc:title>
</cp:coreProperties>
</file>